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35D6C-25B3-46D1-83F9-ADE806358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6C480-B4D7-4745-B447-BDD87F3B8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A772C-7C8E-47E7-9795-BB2FCA859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6C387-E4B6-459D-835A-924E373C3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D1149-3F32-4937-99FE-7208E517F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2C8D5-B5A9-416A-9736-EAE2C996A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FF599-D441-4376-8170-41DECE2B0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F6CFA-2AF1-4CEF-9DDE-BB387C508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814B6-89E4-4214-A522-EAE9B9B38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AED99-95BA-4A55-914C-07E170BFB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487E5-549F-4CDA-8BC7-D9747DA65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495B-447A-42BC-BE9F-9B9648204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BE738-E7D8-410D-A0FF-AC43FF94F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EB14E-8A0F-49C9-A6BA-E53D21885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3618F-D3B6-4A73-B6AE-633AB3CD3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2850F-0DE5-48EE-9C73-ABB82406C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E9C6B-D36C-43F4-87F9-5752C1ED0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3904DA0-609E-43A0-8AD4-01F3C8B3BA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564E481-31E2-4BEA-ACA3-CA79F2F45F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E99AE8-47A8-4479-A792-569537F042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0A656A-712A-43D8-B807-A82F26FA22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DC4009-9443-4E3A-9079-FDBC64543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17C31-900E-4463-8AAF-D3C8F3886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D29050-CA6E-4481-B133-49E0B16AF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CE9247-D07C-4CEE-8928-43DDB667D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EF17FC-69D2-4F41-BAD1-38379D121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6BCA1F-1573-4003-B253-B54E2DC65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5724CB-C3A5-42F1-8DDA-EE6F2811B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A08E93-EA61-411B-9E4C-BB1835D156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67ED3F6-894E-409F-940B-B1307C5EE5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D0F822-C31B-49B4-BD17-97C6F987F4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0A94F-0193-42AD-A935-4B04BDDF2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90546-4397-495C-A08D-197273C22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79DC2-6EE2-46CC-A7D7-5D51D4098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9400ED-1E37-44B1-86B9-58D76E383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615FD-A3EC-4D82-AC88-439718D73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9350B-7F21-43A6-BC1C-2E331DE0D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12F5A-5A86-429B-9700-87283315D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FE3F0-D349-495E-AC75-416086B08D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1F851-5605-4777-97E5-F5C74CF66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B00B8B-5B5D-426E-AE43-CB01D5749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94C4B4-54BB-4A5E-87F7-FC9F5B1359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C2DFD0-AEB1-495E-A7C5-3A7C821B31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F4138CE-208D-43CD-BA2C-2C0B327592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6614-18E7-4D48-AA0D-3245A136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F96AF8-2C48-4395-BD1C-3FC40FA6F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01CD68-C623-4FBD-B680-C12ADB2F81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F85D5D0-67DF-4A70-B79F-AAAD4C379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8046B5-9268-4EDE-A365-3E59516E5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9B7560-7C48-4F67-826E-0650A7ECB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FAEA02-6B6C-4823-909F-A16D46ABB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32AFDE7-D2B5-41DC-893B-15C1631AC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33AB3A-FF5D-42E7-B3CB-C8745B20D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8A052C-FFDD-4BC9-8FC3-2FA9E1B9D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29534C-43D8-45F6-A0B1-76C0DA71EF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5C8E3-3164-42EA-95E3-3FA6FF918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13D886E-B2AE-4E6A-88FD-245DB2918A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82D6A15-C58D-4BC2-9C7E-C0BC2B4829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4ADC379-02F9-4662-8DFF-4F7D030CD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DAD5A67-F26E-48BC-9305-C76F294C36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BFC258-30B6-4210-B61D-73E3D9DB43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0182288-38DE-46CA-BB2C-585B6D51B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45C74D-1913-4202-B6C9-0FBB2703E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4CB242E-76AB-44B5-94DA-780224FEB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7074AB-39AE-4C53-A6AC-28C503ECC9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16F7A4B-314F-416C-92B2-843DACF66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871E-C79D-4750-80FF-C18AEDCA6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88167E3-80CB-42C0-AD39-F6467EA62F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D659B5C-9058-4BF1-AC59-589828DC0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FC31BCE-56C6-436D-9D2A-5108CA51CD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4743EDC-2675-43ED-84B0-0018CCA7DF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6E9F94C-CAAC-45AE-A63A-C24946C71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756C345-C5BA-4455-8A38-F818D48739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AE67B6-F913-42E3-831A-F7E59F69E7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C5CD52-7EC8-4302-9BCE-40D43F5B9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F028C5-2257-4299-8C39-DA854B945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28D9B20-0ED9-42FB-A8F7-78F546B6FA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B98A5-4E73-4134-815F-05606B9CD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FA993F-59E7-4C12-8525-53FA5D119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03C4D4-9401-4277-9EFA-A6569EE515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A73799-B70A-4EB5-853C-13BE5507EC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121BBB0-D588-460D-9791-E2B19357DF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8C6B05A-4111-462D-B94D-B05DEC9BB1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6ecf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997A-A69F-47BA-9140-EE6016ED1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1400-9824-4F83-9D9A-7C309E97C49B}"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48"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49"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0"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1"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2"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3"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4"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5"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6" name="Straight Connector 26"/>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57" name="Rectangle 27"/>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8" name="Oval 28"/>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59" name="Oval 29"/>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0" name="Oval 30"/>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1" name="Oval 31"/>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2" name="Oval 32"/>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56E0-8F65-481C-8974-77B68DCD1765}"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847F-E6D2-4357-A3EF-BC6DF04862E8}"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2" name="Rectangle 16"/>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3" name="Rectangle 17"/>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4" name="Rectangle 18"/>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55" name="Straight Connector 19"/>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6" name="Straight Connector 20"/>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7" name="Straight Connector 23"/>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8" name="Straight Connector 24"/>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59" name="Straight Connector 25"/>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0"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1"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2" name="Oval 28"/>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3"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4" name="Oval 30"/>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5" name="Oval 31"/>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66" name="Straight Connector 32"/>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E02A-F4A2-45DB-B431-39A2474733C9}"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6542-44D1-4D12-A785-22CE2FD78590}"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6" name="Straight Connector 16"/>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7" name="Straight Connector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8" name="Straight Connector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59" name="Rectangle 1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60" name="Straight Connector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261" name="Oval 23"/>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F9D9-5AE2-433B-8E37-EDE04F9E4A82}"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4" name="Oval 16"/>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305" name="Straight Connector 17"/>
          <p:cNvSpPr/>
          <p:nvPr/>
        </p:nvSpPr>
        <p:spPr>
          <a:xfrm>
            <a:off x="8991720" y="0"/>
            <a:ext cx="0" cy="685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6" name="Rectangle 18"/>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
        <p:nvSpPr>
          <p:cNvPr id="307"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8" name="Straight Connector 20"/>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09" name="Straight Connector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Times New Roman"/>
              </a:rPr>
              <a:t>&lt;date/time&gt;</a:t>
            </a:r>
            <a:endParaRPr b="0" lang="en-US" sz="1200" spc="-1" strike="noStrike">
              <a:solidFill>
                <a:srgbClr val="ffffff"/>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C9E9-3EEC-4B7E-9A71-3FF594649143}"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6ecff"/>
                </a:solidFill>
                <a:latin typeface="Century Schoolbook"/>
              </a:rPr>
              <a:t>ALFRED ROSENBERG</a:t>
            </a:r>
            <a:endParaRPr b="0" lang="en-US" sz="3000" spc="-1" strike="noStrike">
              <a:solidFill>
                <a:srgbClr val="d6ecff"/>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ecff"/>
                </a:solidFill>
                <a:latin typeface="Century Schoolbook"/>
              </a:rPr>
              <a:t>January 12, 1893 – October 16, 1946</a:t>
            </a:r>
            <a:endParaRPr b="0" lang="en-US" sz="18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WORKS CITED</a:t>
            </a:r>
            <a:endParaRPr b="0" lang="en-US" sz="3600" spc="-1" strike="noStrike">
              <a:solidFill>
                <a:srgbClr val="d6ecff"/>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spartacus.schoolnet.co.uk/GERrosenberg.htm</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historyplace.com/worldwar2/holocaust/h-rosen.htm</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jewishvirtuallibrary.org</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britannica.com/EBchecked/topic/509892/Alfred-Rosenberg</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ttp://www1.yadvashem.org/odot_pdf </a:t>
            </a:r>
            <a:endParaRPr b="0" lang="en-US" sz="24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EARLY LIFE</a:t>
            </a:r>
            <a:endParaRPr b="0" lang="en-US" sz="3600" spc="-1" strike="noStrike">
              <a:solidFill>
                <a:srgbClr val="d6ecff"/>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Alfred Rosenberg was born in Estonia on January 12, 1893, but then moved to Munich in 1918.</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was the son of a cobbler.</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moved to Moscow in order to study architecture until the Revolution of 1917.</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was a propagandist and German politician.</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ddc"/>
                </a:solidFill>
                <a:latin typeface="Century Schoolbook"/>
              </a:rPr>
              <a:t>ALFRED ROSENBERG</a:t>
            </a:r>
            <a:endParaRPr b="0" lang="en-US" sz="3200" spc="-1" strike="noStrike">
              <a:solidFill>
                <a:srgbClr val="d6ecff"/>
              </a:solidFill>
              <a:latin typeface="Century Schoolbook"/>
            </a:endParaRPr>
          </a:p>
        </p:txBody>
      </p:sp>
      <p:sp>
        <p:nvSpPr>
          <p:cNvPr id="356" name=""/>
          <p:cNvSpPr txBox="1"/>
          <p:nvPr/>
        </p:nvSpPr>
        <p:spPr>
          <a:xfrm>
            <a:off x="457200" y="1600200"/>
            <a:ext cx="4191120" cy="452592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joined the Nazi party in 1923 and became the editor of the party’s newspaper, “Voelkischer Beobacter.”</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was elected to the Reichstag after he founded the </a:t>
            </a:r>
            <a:r>
              <a:rPr b="0" i="1" lang="en-US" sz="2400" spc="-1" strike="noStrike">
                <a:solidFill>
                  <a:srgbClr val="ffffff"/>
                </a:solidFill>
                <a:latin typeface="Century Schoolbook"/>
              </a:rPr>
              <a:t>Militant League for German Culture</a:t>
            </a:r>
            <a:r>
              <a:rPr b="0" lang="en-US" sz="2400" spc="-1" strike="noStrike">
                <a:solidFill>
                  <a:srgbClr val="ffffff"/>
                </a:solidFill>
                <a:latin typeface="Century Schoolbook"/>
              </a:rPr>
              <a:t> the previous year.</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pic>
        <p:nvPicPr>
          <p:cNvPr id="357" name="Content Placeholder 6" descr="rosen1.jpg"/>
          <p:cNvPicPr/>
          <p:nvPr/>
        </p:nvPicPr>
        <p:blipFill>
          <a:blip r:embed="rId1"/>
          <a:stretch/>
        </p:blipFill>
        <p:spPr>
          <a:xfrm>
            <a:off x="4584600" y="476280"/>
            <a:ext cx="3962520" cy="980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ALFRED ROSENBERG CONT.</a:t>
            </a:r>
            <a:endParaRPr b="0" lang="en-US" sz="3600" spc="-1" strike="noStrike">
              <a:solidFill>
                <a:srgbClr val="d6ecff"/>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became the Reich Minister of the Eastern Territories after the success of Operation Barbarossa.</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itler appointed him as the head of </a:t>
            </a:r>
            <a:r>
              <a:rPr b="0" i="1" lang="en-US" sz="2400" spc="-1" strike="noStrike">
                <a:solidFill>
                  <a:srgbClr val="ffffff"/>
                </a:solidFill>
                <a:latin typeface="Century Schoolbook"/>
              </a:rPr>
              <a:t>Hohe</a:t>
            </a:r>
            <a:r>
              <a:rPr b="0" lang="en-US" sz="2400" spc="-1" strike="noStrike">
                <a:solidFill>
                  <a:srgbClr val="ffffff"/>
                </a:solidFill>
                <a:latin typeface="Century Schoolbook"/>
              </a:rPr>
              <a:t> </a:t>
            </a:r>
            <a:r>
              <a:rPr b="0" i="1" lang="en-US" sz="2400" spc="-1" strike="noStrike">
                <a:solidFill>
                  <a:srgbClr val="ffffff"/>
                </a:solidFill>
                <a:latin typeface="Century Schoolbook"/>
              </a:rPr>
              <a:t>Schule</a:t>
            </a:r>
            <a:r>
              <a:rPr b="0" lang="en-US" sz="2400" spc="-1" strike="noStrike">
                <a:solidFill>
                  <a:srgbClr val="ffffff"/>
                </a:solidFill>
                <a:latin typeface="Century Schoolbook"/>
              </a:rPr>
              <a:t> (The University of Nazism).</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was the head of a special unit called Einsatzab Rosenberg which plundered Jewish homes searching for art and literature they owned and they also raided libraries.</a:t>
            </a:r>
            <a:endParaRPr b="0" lang="en-US" sz="24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ALFRED ROSENBERG CONT.</a:t>
            </a:r>
            <a:endParaRPr b="0" lang="en-US" sz="3600" spc="-1" strike="noStrike">
              <a:solidFill>
                <a:srgbClr val="d6ecff"/>
              </a:solidFill>
              <a:latin typeface="Century Schoolbook"/>
            </a:endParaRPr>
          </a:p>
        </p:txBody>
      </p:sp>
      <p:sp>
        <p:nvSpPr>
          <p:cNvPr id="361" name=""/>
          <p:cNvSpPr txBox="1"/>
          <p:nvPr/>
        </p:nvSpPr>
        <p:spPr>
          <a:xfrm>
            <a:off x="457200" y="1600200"/>
            <a:ext cx="3657600" cy="4572000"/>
          </a:xfrm>
          <a:prstGeom prst="rect">
            <a:avLst/>
          </a:prstGeom>
          <a:noFill/>
          <a:ln w="0">
            <a:noFill/>
          </a:ln>
        </p:spPr>
        <p:txBody>
          <a:bodyPr lIns="90000" rIns="90000" tIns="46800" bIns="46800" anchor="t">
            <a:normAutofit fontScale="96000"/>
          </a:bodyPr>
          <a:p>
            <a:pPr marL="261720" indent="-26172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Rosenberg was put in charge of the Nazi party when Hitler was jailed after his attempt to overtake the Bavarian government.</a:t>
            </a:r>
            <a:endParaRPr b="0" lang="en-US" sz="2400" spc="-1" strike="noStrike">
              <a:solidFill>
                <a:srgbClr val="ffffff"/>
              </a:solidFill>
              <a:latin typeface="Century Schoolbook"/>
            </a:endParaRPr>
          </a:p>
          <a:p>
            <a:pPr marL="261720" indent="-26172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He headed the foreign policy department and was the leader of the Center for Nazi Studies.</a:t>
            </a:r>
            <a:endParaRPr b="0" lang="en-US" sz="2400" spc="-1" strike="noStrike">
              <a:solidFill>
                <a:srgbClr val="ffffff"/>
              </a:solidFill>
              <a:latin typeface="Century Schoolbook"/>
            </a:endParaRPr>
          </a:p>
        </p:txBody>
      </p:sp>
      <p:pic>
        <p:nvPicPr>
          <p:cNvPr id="362" name="Content Placeholder 4" descr="3426048.jpg"/>
          <p:cNvPicPr/>
          <p:nvPr/>
        </p:nvPicPr>
        <p:blipFill>
          <a:blip r:embed="rId1"/>
          <a:stretch/>
        </p:blipFill>
        <p:spPr>
          <a:xfrm>
            <a:off x="3790800" y="1096920"/>
            <a:ext cx="5067360" cy="604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ALFRED ROSENBERG CONT.</a:t>
            </a:r>
            <a:endParaRPr b="0" lang="en-US" sz="3600" spc="-1" strike="noStrike">
              <a:solidFill>
                <a:srgbClr val="d6ecff"/>
              </a:solidFill>
              <a:latin typeface="Century Schoolbook"/>
            </a:endParaRPr>
          </a:p>
        </p:txBody>
      </p:sp>
      <p:pic>
        <p:nvPicPr>
          <p:cNvPr id="364" name="Content Placeholder 4" descr="Bundesarchiv_Bild_146-1969-067-01,_Kiew,_Alfred_Meyer,_Erich_Koch,_Alfred_Rosenberg.jpg"/>
          <p:cNvPicPr/>
          <p:nvPr/>
        </p:nvPicPr>
        <p:blipFill>
          <a:blip r:embed="rId1"/>
          <a:stretch/>
        </p:blipFill>
        <p:spPr>
          <a:xfrm>
            <a:off x="158760" y="2066760"/>
            <a:ext cx="4181400" cy="3535560"/>
          </a:xfrm>
          <a:prstGeom prst="rect">
            <a:avLst/>
          </a:prstGeom>
          <a:ln w="0">
            <a:noFill/>
          </a:ln>
        </p:spPr>
      </p:pic>
      <p:sp>
        <p:nvSpPr>
          <p:cNvPr id="365" name=""/>
          <p:cNvSpPr txBox="1"/>
          <p:nvPr/>
        </p:nvSpPr>
        <p:spPr>
          <a:xfrm>
            <a:off x="4270320" y="1600200"/>
            <a:ext cx="3657600" cy="457200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Alfred Rosenberg founded the Institute for the Investigation of the Jewish Question.</a:t>
            </a:r>
            <a:endParaRPr b="0" lang="en-US" sz="20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This declared that every Jew living in Greater Germany would be forced to leave for the “Jewish Question” to be resolved.</a:t>
            </a:r>
            <a:endParaRPr b="0" lang="en-US" sz="2000" spc="-1" strike="noStrike">
              <a:solidFill>
                <a:srgbClr val="ffffff"/>
              </a:solidFill>
              <a:latin typeface="Century Schoolbook"/>
            </a:endParaRPr>
          </a:p>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He was hung during the Nuremburg Trials on October 16, 1946.</a:t>
            </a:r>
            <a:endParaRPr b="0" lang="en-US" sz="20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PUBLICATIONS</a:t>
            </a:r>
            <a:endParaRPr b="0" lang="en-US" sz="3600" spc="-1" strike="noStrike">
              <a:solidFill>
                <a:srgbClr val="d6ecff"/>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Alfred Rosenberg wrote many books talking about the problems the Jews were causing.</a:t>
            </a:r>
            <a:endParaRPr b="0" lang="en-US" sz="2400" spc="-1" strike="noStrike">
              <a:solidFill>
                <a:srgbClr val="ffffff"/>
              </a:solidFill>
              <a:latin typeface="Century Schoolbook"/>
            </a:endParaRPr>
          </a:p>
          <a:p>
            <a:pPr lvl="1" marL="639720" indent="-272880">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Century Schoolbook"/>
              </a:rPr>
              <a:t>The Myth of the 20</a:t>
            </a:r>
            <a:r>
              <a:rPr b="0" lang="en-US" sz="2100" spc="-1" strike="noStrike" u="sng" baseline="30000">
                <a:solidFill>
                  <a:srgbClr val="ffffff"/>
                </a:solidFill>
                <a:uFillTx/>
                <a:latin typeface="Century Schoolbook"/>
              </a:rPr>
              <a:t>th</a:t>
            </a:r>
            <a:r>
              <a:rPr b="0" lang="en-US" sz="2100" spc="-1" strike="noStrike" u="sng">
                <a:solidFill>
                  <a:srgbClr val="ffffff"/>
                </a:solidFill>
                <a:uFillTx/>
                <a:latin typeface="Century Schoolbook"/>
              </a:rPr>
              <a:t> Century </a:t>
            </a:r>
            <a:r>
              <a:rPr b="0" lang="en-US" sz="2100" spc="-1" strike="noStrike">
                <a:solidFill>
                  <a:srgbClr val="ffffff"/>
                </a:solidFill>
                <a:latin typeface="Century Schoolbook"/>
              </a:rPr>
              <a:t>talked about the two opposing forces: the Aryans and the Jews.  He believed the Aryans were the creators of culture and values and the Jews were agents of “cultural corruption.”  He believed the Germans should dominate Europe.</a:t>
            </a:r>
            <a:endParaRPr b="0" lang="en-US" sz="2100" spc="-1" strike="noStrike">
              <a:solidFill>
                <a:srgbClr val="ffffff"/>
              </a:solidFill>
              <a:latin typeface="Century Schoolbook"/>
            </a:endParaRPr>
          </a:p>
          <a:p>
            <a:pPr lvl="1" marL="639720" indent="-272880">
              <a:spcBef>
                <a:spcPts val="524"/>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Century Schoolbook"/>
              </a:rPr>
              <a:t>The Future of German Foreign Policy </a:t>
            </a:r>
            <a:r>
              <a:rPr b="0" lang="en-US" sz="2100" spc="-1" strike="noStrike">
                <a:solidFill>
                  <a:srgbClr val="ffffff"/>
                </a:solidFill>
                <a:latin typeface="Century Schoolbook"/>
              </a:rPr>
              <a:t>(</a:t>
            </a:r>
            <a:r>
              <a:rPr b="0" i="1" lang="en-US" sz="2100" spc="-1" strike="noStrike">
                <a:solidFill>
                  <a:srgbClr val="ffffff"/>
                </a:solidFill>
                <a:latin typeface="Century Schoolbook"/>
              </a:rPr>
              <a:t>Der</a:t>
            </a:r>
            <a:r>
              <a:rPr b="0" lang="en-US" sz="2100" spc="-1" strike="noStrike">
                <a:solidFill>
                  <a:srgbClr val="ffffff"/>
                </a:solidFill>
                <a:latin typeface="Century Schoolbook"/>
              </a:rPr>
              <a:t> </a:t>
            </a:r>
            <a:r>
              <a:rPr b="0" i="1" lang="en-US" sz="2100" spc="-1" strike="noStrike">
                <a:solidFill>
                  <a:srgbClr val="ffffff"/>
                </a:solidFill>
                <a:latin typeface="Century Schoolbook"/>
              </a:rPr>
              <a:t>Zukenftsweg</a:t>
            </a:r>
            <a:r>
              <a:rPr b="0" lang="en-US" sz="2100" spc="-1" strike="noStrike">
                <a:solidFill>
                  <a:srgbClr val="ffffff"/>
                </a:solidFill>
                <a:latin typeface="Century Schoolbook"/>
              </a:rPr>
              <a:t>)-urged the conquest of Poland Russia.</a:t>
            </a:r>
            <a:endParaRPr b="0" lang="en-US" sz="21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PUBLICATIONS CONT.</a:t>
            </a:r>
            <a:endParaRPr b="0" lang="en-US" sz="3600" spc="-1" strike="noStrike">
              <a:solidFill>
                <a:srgbClr val="d6ecff"/>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lIns="90000" rIns="90000" tIns="46800" bIns="46800" anchor="t">
            <a:normAutofit/>
          </a:bodyPr>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 </a:t>
            </a:r>
            <a:r>
              <a:rPr b="0" lang="en-US" sz="2400" spc="-1" strike="noStrike" u="sng">
                <a:solidFill>
                  <a:srgbClr val="ffffff"/>
                </a:solidFill>
                <a:uFillTx/>
                <a:latin typeface="Century Schoolbook"/>
              </a:rPr>
              <a:t>The Track of the Jews Through the Ages </a:t>
            </a:r>
            <a:r>
              <a:rPr b="0" lang="en-US" sz="2400" spc="-1" strike="noStrike">
                <a:solidFill>
                  <a:srgbClr val="ffffff"/>
                </a:solidFill>
                <a:latin typeface="Century Schoolbook"/>
              </a:rPr>
              <a:t>(</a:t>
            </a:r>
            <a:r>
              <a:rPr b="0" i="1" lang="en-US" sz="2400" spc="-1" strike="noStrike">
                <a:solidFill>
                  <a:srgbClr val="ffffff"/>
                </a:solidFill>
                <a:latin typeface="Century Schoolbook"/>
              </a:rPr>
              <a:t>Diespur der Juden im Wandel der Zeiten</a:t>
            </a:r>
            <a:r>
              <a:rPr b="0" lang="en-US" sz="2400" spc="-1" strike="noStrike">
                <a:solidFill>
                  <a:srgbClr val="ffffff"/>
                </a:solidFill>
                <a:latin typeface="Century Schoolbook"/>
              </a:rPr>
              <a:t>)-discussed anti-semitic and anti-Bolshevik ultra nationalism.</a:t>
            </a:r>
            <a:endParaRPr b="0" lang="en-US" sz="2400" spc="-1" strike="noStrike">
              <a:solidFill>
                <a:srgbClr val="ffffff"/>
              </a:solidFill>
              <a:latin typeface="Century Schoolbook"/>
            </a:endParaRPr>
          </a:p>
          <a:p>
            <a:pPr marL="272880" indent="-272880">
              <a:lnSpc>
                <a:spcPct val="9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entury Schoolbook"/>
              </a:rPr>
              <a:t>Immortality in the Talmud </a:t>
            </a:r>
            <a:r>
              <a:rPr b="0" lang="en-US" sz="2400" spc="-1" strike="noStrike">
                <a:solidFill>
                  <a:srgbClr val="ffffff"/>
                </a:solidFill>
                <a:latin typeface="Century Schoolbook"/>
              </a:rPr>
              <a:t>(</a:t>
            </a:r>
            <a:r>
              <a:rPr b="0" i="1" lang="en-US" sz="2400" spc="-1" strike="noStrike">
                <a:solidFill>
                  <a:srgbClr val="ffffff"/>
                </a:solidFill>
                <a:latin typeface="Century Schoolbook"/>
              </a:rPr>
              <a:t>Unmoral im Talmud</a:t>
            </a:r>
            <a:r>
              <a:rPr b="0" lang="en-US" sz="2400" spc="-1" strike="noStrike">
                <a:solidFill>
                  <a:srgbClr val="ffffff"/>
                </a:solidFill>
                <a:latin typeface="Century Schoolbook"/>
              </a:rPr>
              <a:t>)- also discussed anti-semitic and anti-Bolshevik ultra nationalism.</a:t>
            </a:r>
            <a:endParaRPr b="0" lang="en-US" sz="2400" spc="-1" strike="noStrike">
              <a:solidFill>
                <a:srgbClr val="ffffff"/>
              </a:solidFill>
              <a:latin typeface="Century Schoolbook"/>
            </a:endParaRPr>
          </a:p>
        </p:txBody>
      </p:sp>
      <p:pic>
        <p:nvPicPr>
          <p:cNvPr id="370" name="Picture 7" descr="647.jpg"/>
          <p:cNvPicPr/>
          <p:nvPr/>
        </p:nvPicPr>
        <p:blipFill>
          <a:blip r:embed="rId1"/>
          <a:stretch/>
        </p:blipFill>
        <p:spPr>
          <a:xfrm>
            <a:off x="6172200" y="609480"/>
            <a:ext cx="2370240" cy="3470400"/>
          </a:xfrm>
          <a:prstGeom prst="rect">
            <a:avLst/>
          </a:prstGeom>
          <a:ln w="0">
            <a:noFill/>
          </a:ln>
        </p:spPr>
      </p:pic>
      <p:pic>
        <p:nvPicPr>
          <p:cNvPr id="371" name="Content Placeholder 4" descr="GER-20-2.jpg"/>
          <p:cNvPicPr/>
          <p:nvPr/>
        </p:nvPicPr>
        <p:blipFill>
          <a:blip r:embed="rId2"/>
          <a:stretch/>
        </p:blipFill>
        <p:spPr>
          <a:xfrm>
            <a:off x="4800600" y="2895480"/>
            <a:ext cx="2286000" cy="3424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ddc"/>
                </a:solidFill>
                <a:latin typeface="Century Schoolbook"/>
              </a:rPr>
              <a:t>PUBLICATIONS CONT.</a:t>
            </a:r>
            <a:endParaRPr b="0" lang="en-US" sz="3600" spc="-1" strike="noStrike">
              <a:solidFill>
                <a:srgbClr val="d6ecff"/>
              </a:solidFill>
              <a:latin typeface="Century Schoolbook"/>
            </a:endParaRPr>
          </a:p>
        </p:txBody>
      </p:sp>
      <p:pic>
        <p:nvPicPr>
          <p:cNvPr id="373" name="Content Placeholder 3" descr="cd46.jpg"/>
          <p:cNvPicPr/>
          <p:nvPr/>
        </p:nvPicPr>
        <p:blipFill>
          <a:blip r:embed="rId1"/>
          <a:stretch/>
        </p:blipFill>
        <p:spPr>
          <a:xfrm>
            <a:off x="152280" y="1447920"/>
            <a:ext cx="3581640" cy="3276360"/>
          </a:xfrm>
          <a:prstGeom prst="rect">
            <a:avLst/>
          </a:prstGeom>
          <a:ln w="0">
            <a:noFill/>
          </a:ln>
        </p:spPr>
      </p:pic>
      <p:pic>
        <p:nvPicPr>
          <p:cNvPr id="374" name="Picture 5" descr="imagesCA6RD2TM.jpg"/>
          <p:cNvPicPr/>
          <p:nvPr/>
        </p:nvPicPr>
        <p:blipFill>
          <a:blip r:embed="rId2"/>
          <a:stretch/>
        </p:blipFill>
        <p:spPr>
          <a:xfrm>
            <a:off x="5943600" y="1447920"/>
            <a:ext cx="2743200" cy="3743280"/>
          </a:xfrm>
          <a:prstGeom prst="rect">
            <a:avLst/>
          </a:prstGeom>
          <a:ln w="0">
            <a:noFill/>
          </a:ln>
        </p:spPr>
      </p:pic>
      <p:pic>
        <p:nvPicPr>
          <p:cNvPr id="375" name="Picture 7" descr="323.jpg"/>
          <p:cNvPicPr/>
          <p:nvPr/>
        </p:nvPicPr>
        <p:blipFill>
          <a:blip r:embed="rId3"/>
          <a:stretch/>
        </p:blipFill>
        <p:spPr>
          <a:xfrm>
            <a:off x="2971800" y="4724280"/>
            <a:ext cx="2349360" cy="2133720"/>
          </a:xfrm>
          <a:prstGeom prst="rect">
            <a:avLst/>
          </a:prstGeom>
          <a:ln w="0">
            <a:noFill/>
          </a:ln>
        </p:spPr>
      </p:pic>
      <p:pic>
        <p:nvPicPr>
          <p:cNvPr id="376" name="Picture 8" descr="54b.jpg"/>
          <p:cNvPicPr/>
          <p:nvPr/>
        </p:nvPicPr>
        <p:blipFill>
          <a:blip r:embed="rId4"/>
          <a:stretch/>
        </p:blipFill>
        <p:spPr>
          <a:xfrm>
            <a:off x="152280" y="4191120"/>
            <a:ext cx="2895840" cy="2666880"/>
          </a:xfrm>
          <a:prstGeom prst="rect">
            <a:avLst/>
          </a:prstGeom>
          <a:ln w="0">
            <a:noFill/>
          </a:ln>
        </p:spPr>
      </p:pic>
      <p:pic>
        <p:nvPicPr>
          <p:cNvPr id="377" name="Picture 4" descr="Alfred%20Rosenberg's%201923%20commentary%20on%20the%20Protocols.jpg"/>
          <p:cNvPicPr/>
          <p:nvPr/>
        </p:nvPicPr>
        <p:blipFill>
          <a:blip r:embed="rId5"/>
          <a:stretch/>
        </p:blipFill>
        <p:spPr>
          <a:xfrm>
            <a:off x="3657600" y="1447920"/>
            <a:ext cx="2417760" cy="3402000"/>
          </a:xfrm>
          <a:prstGeom prst="rect">
            <a:avLst/>
          </a:prstGeom>
          <a:ln w="0">
            <a:noFill/>
          </a:ln>
        </p:spPr>
      </p:pic>
      <p:pic>
        <p:nvPicPr>
          <p:cNvPr id="378" name="Picture 6" descr="book_political_essays.jpg"/>
          <p:cNvPicPr/>
          <p:nvPr/>
        </p:nvPicPr>
        <p:blipFill>
          <a:blip r:embed="rId6"/>
          <a:stretch/>
        </p:blipFill>
        <p:spPr>
          <a:xfrm>
            <a:off x="5334120" y="4314960"/>
            <a:ext cx="1904760" cy="2543040"/>
          </a:xfrm>
          <a:prstGeom prst="rect">
            <a:avLst/>
          </a:prstGeom>
          <a:ln w="0">
            <a:noFill/>
          </a:ln>
        </p:spPr>
      </p:pic>
      <p:pic>
        <p:nvPicPr>
          <p:cNvPr id="379" name="Picture 9" descr="e_71288_47281_xl.jpg"/>
          <p:cNvPicPr/>
          <p:nvPr/>
        </p:nvPicPr>
        <p:blipFill>
          <a:blip r:embed="rId7"/>
          <a:stretch/>
        </p:blipFill>
        <p:spPr>
          <a:xfrm>
            <a:off x="7238880" y="4773600"/>
            <a:ext cx="1524240" cy="208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4:54:02Z</dcterms:created>
  <dc:creator>7406</dc:creator>
  <dc:description/>
  <dc:language>en-US</dc:language>
  <cp:lastModifiedBy> </cp:lastModifiedBy>
  <dcterms:modified xsi:type="dcterms:W3CDTF">2009-11-24T17:15:16Z</dcterms:modified>
  <cp:revision>11</cp:revision>
  <dc:subject/>
  <dc:title>Alfred Roesnberg</dc:title>
</cp:coreProperties>
</file>